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64CB-893F-45C3-8EE7-8D36AB437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17D6-BCF3-45CB-8DFC-7E7E760C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94EA-8C8F-4CBE-ABA9-822F63CC6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4D7B-18E5-4920-8DE1-546E6F15B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0C36-4E65-4E19-88AE-243414C42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B975-F539-41A1-A7DD-A95A36EC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0100-B864-4DA3-9DAB-ED8BB9D0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44F8-E3D6-427C-A165-68DF73AC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5A19-4535-41BA-A9AD-7FCDD60A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6CE0-1DC6-4007-95FE-0BA2DDF1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A628-D909-4AC4-A897-C6A27705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1539-F9AC-4769-989C-69CE5568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4642-DA6C-40D4-87DC-6BEA85AB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9765-54C7-4950-8E6E-AAD91B96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7A00F-7E63-4CE9-AB55-24EA53AE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2FF3B-FE57-4DD3-9F04-AA99C18B3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DA642-4813-4030-9ABC-FC9F6BDA0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1FB0-5450-45B4-A0C2-282E9DAA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31A4-A497-44E5-B6E5-79E41A53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A909-6EE6-42DC-B86D-6E6C8E36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591A-D32F-4E47-A26B-A9070A42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2847-8194-4444-9069-12397E24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8BC1-499E-4AEC-AEB2-1100753B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373F-FFD6-4057-9469-D1A7BFB1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199A-CDFB-40EE-8488-EC7207C59E47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66DB-83F3-4D1F-9383-21D1B4806DC5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219320" y="54860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hallenge #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819520" cy="24224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228600" y="2057400"/>
            <a:ext cx="86868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Atomic Math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aeaea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5800" y="304920"/>
            <a:ext cx="73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Fill in the chart using the information provide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28600" y="1397160"/>
          <a:ext cx="8686800" cy="4063680"/>
        </p:xfrm>
        <a:graphic>
          <a:graphicData uri="http://schemas.openxmlformats.org/drawingml/2006/table">
            <a:tbl>
              <a:tblPr/>
              <a:tblGrid>
                <a:gridCol w="1447920"/>
                <a:gridCol w="1447560"/>
                <a:gridCol w="1447920"/>
                <a:gridCol w="1447920"/>
                <a:gridCol w="1447560"/>
                <a:gridCol w="1447920"/>
              </a:tblGrid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lement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tomic #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tomic Mas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oton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utron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lectron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i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7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8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8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l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7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3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"/>
          <p:cNvSpPr/>
          <p:nvPr/>
        </p:nvSpPr>
        <p:spPr>
          <a:xfrm>
            <a:off x="4749840" y="256536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48520" y="259092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96080" y="2590920"/>
            <a:ext cx="106704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14880" y="359100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00600" y="359100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696080" y="3591000"/>
            <a:ext cx="106704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05120" y="457200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G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0600" y="457200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248520" y="457200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I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85800" y="304920"/>
            <a:ext cx="73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28600" y="1397160"/>
          <a:ext cx="8686800" cy="4063680"/>
        </p:xfrm>
        <a:graphic>
          <a:graphicData uri="http://schemas.openxmlformats.org/drawingml/2006/table">
            <a:tbl>
              <a:tblPr/>
              <a:tblGrid>
                <a:gridCol w="1447920"/>
                <a:gridCol w="1447560"/>
                <a:gridCol w="1447920"/>
                <a:gridCol w="1447920"/>
                <a:gridCol w="1447560"/>
                <a:gridCol w="1447920"/>
              </a:tblGrid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lement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tomic #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tomic Mas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oton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utron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lectron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i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7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8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8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l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7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3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"/>
          <p:cNvSpPr/>
          <p:nvPr/>
        </p:nvSpPr>
        <p:spPr>
          <a:xfrm>
            <a:off x="4711680" y="254952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7508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620120" y="257508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38560" y="357516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762440" y="3575160"/>
            <a:ext cx="106704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20120" y="357516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28800" y="455616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762440" y="4556160"/>
            <a:ext cx="106704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184800" y="4556160"/>
            <a:ext cx="106704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02:03:21Z</dcterms:created>
  <dc:creator>Tracy Trimpe</dc:creator>
  <dc:description/>
  <dc:language>en-US</dc:language>
  <cp:lastModifiedBy>PritchaJ</cp:lastModifiedBy>
  <dcterms:modified xsi:type="dcterms:W3CDTF">2011-06-01T13:46:33Z</dcterms:modified>
  <cp:revision>10</cp:revision>
  <dc:subject/>
  <dc:title>Slide 1</dc:title>
</cp:coreProperties>
</file>